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F583D-1C5A-4CDC-9363-39B565777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55A99-57D2-4551-9971-6E80AA473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D7299-7862-4C39-8272-48683E02B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31E5B-AC84-40AC-B7FD-CBFC6D87D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9C27F-3F23-459F-8760-0E830957C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9F2DE-2A80-448D-9B7F-855CBD798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5EC2B-D96A-417A-9C22-9BA7E66E9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0174F-813D-43DB-95E8-3016646C5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C3706-5AEC-4E81-A5A2-F752252C1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EF049-DC38-410F-9905-8A0F1EAC4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654CF-E8BD-4834-891C-0B34C6D59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324C8-B296-4383-AB1A-A88A19138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66754-4851-47F7-9B1B-442908A5A2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99cc00"/>
                </a:solidFill>
                <a:latin typeface="Arial"/>
              </a:rPr>
              <a:t>Me llamo _______ Clase 7 IL</a:t>
            </a:r>
            <a:br>
              <a:rPr sz="3800"/>
            </a:br>
            <a:r>
              <a:rPr b="0" lang="en-US" sz="3800" spc="-1" strike="noStrike">
                <a:solidFill>
                  <a:srgbClr val="99cc00"/>
                </a:solidFill>
                <a:latin typeface="Arial"/>
              </a:rPr>
              <a:t>La fecha es el 19 de diciembre del 20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Arial"/>
              </a:rPr>
              <a:t>Propósito # 34: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Qué te da el medic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Arial"/>
              </a:rPr>
              <a:t>Actividad Inicia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mpleta </a:t>
            </a:r>
            <a:r>
              <a:rPr b="0" lang="es-ES_tradnl" sz="3200" spc="-1" strike="noStrike" u="sng">
                <a:solidFill>
                  <a:srgbClr val="000000"/>
                </a:solidFill>
                <a:uFillTx/>
                <a:latin typeface="Arial"/>
              </a:rPr>
              <a:t>Ejercicio 6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p. 5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Mas Vocabulario Nuev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ff"/>
                </a:solidFill>
                <a:latin typeface="Arial"/>
              </a:rPr>
              <a:t>¿Qué te duele?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s-ES_tradnl" sz="3200" spc="-1" strike="noStrike">
                <a:solidFill>
                  <a:srgbClr val="008000"/>
                </a:solidFill>
                <a:latin typeface="Arial"/>
              </a:rPr>
              <a:t>¿Qué tien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ff"/>
                </a:solidFill>
                <a:latin typeface="Arial"/>
              </a:rPr>
              <a:t>¡Que te mejores pronto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609480" y="2057400"/>
            <a:ext cx="1981440" cy="15415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3429000" y="2133720"/>
            <a:ext cx="1990800" cy="14698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6477120" y="2057400"/>
            <a:ext cx="2057400" cy="2219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31760" y="3657600"/>
            <a:ext cx="291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ff"/>
                </a:solidFill>
                <a:latin typeface="Arial"/>
              </a:rPr>
              <a:t>Me duele el de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83840" y="4129200"/>
            <a:ext cx="2180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8000"/>
                </a:solidFill>
                <a:latin typeface="Arial"/>
              </a:rPr>
              <a:t>Tengo dolo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8000"/>
                </a:solidFill>
                <a:latin typeface="Arial"/>
              </a:rPr>
              <a:t>de de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03280" y="3657600"/>
            <a:ext cx="2596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ff"/>
                </a:solidFill>
                <a:latin typeface="Arial"/>
              </a:rPr>
              <a:t>Me duele el oj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32240" y="4114800"/>
            <a:ext cx="2081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8000"/>
                </a:solidFill>
                <a:latin typeface="Arial"/>
              </a:rPr>
              <a:t>Tengo dol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8000"/>
                </a:solidFill>
                <a:latin typeface="Arial"/>
              </a:rPr>
              <a:t>de oj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793840" y="4267080"/>
            <a:ext cx="309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ff"/>
                </a:solidFill>
                <a:latin typeface="Arial"/>
              </a:rPr>
              <a:t>Me duele el di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413320" y="4724280"/>
            <a:ext cx="364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8000"/>
                </a:solidFill>
                <a:latin typeface="Arial"/>
              </a:rPr>
              <a:t>Tengo dolor de di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031000" y="5486400"/>
            <a:ext cx="285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Feel better soon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Ejercici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a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Ejercicio 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. 55 (1-8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a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Ejercicio 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. 55 (1-6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BOOK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a p. 26 y 2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28195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Tarea # 3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06T01:26:24Z</dcterms:created>
  <dc:creator>Helen Zumaeta</dc:creator>
  <dc:description/>
  <dc:language>en-US</dc:language>
  <cp:lastModifiedBy>Helen Zumaeta</cp:lastModifiedBy>
  <dcterms:modified xsi:type="dcterms:W3CDTF">2013-01-02T20:41:09Z</dcterms:modified>
  <cp:revision>3</cp:revision>
  <dc:subject/>
  <dc:title>Me llamo _______ Clase 7 IM La fecha es el 6 de mayo del 2011</dc:title>
</cp:coreProperties>
</file>